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8CA-27B8-43B3-A04E-59BD9F88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C5C-9C6B-4ADF-BF52-3B545EE9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D61-D262-4B0F-8293-025A34C6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965-16B3-4DE2-A86B-3D0A57FC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77A-B40F-48EC-97E5-2C0E25C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575-2A0C-4181-AB23-C57545C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4C7-C835-487B-A9CB-7575F88F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9FE-0721-411B-AC6C-E5A9B17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976-668B-4896-9A4B-6F46BAC1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F51-98A7-4D5C-AD97-504FC41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577-2D43-40BD-9DC0-218A8CA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B80-24F6-4B20-99EF-52F6D85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A7A1-DB59-4448-AA1F-C02F5414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uedes jugar béis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Ad  on the bottom of p. 25, in ENGLISH, tell as much as you can about what this factory manufactu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ells/mak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9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the geography sli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 repaso de ge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Ubic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uay       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Lima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entina              __________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     Montevideo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     Santiago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tem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   Santo Domingo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Ubic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Puerto Rico         San Juan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___________      Madrid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Honduras            Tegucigalpa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l Salvador    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___________      San Jose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___________      Qui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Venezuela           Caracas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Boliv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__________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Nicaragua            Managua         __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___________      __________   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23:06Z</dcterms:created>
  <dc:creator>Helen Zumaeta</dc:creator>
  <dc:description/>
  <dc:language>en-US</dc:language>
  <cp:lastModifiedBy>Helen Zumaeta</cp:lastModifiedBy>
  <dcterms:modified xsi:type="dcterms:W3CDTF">2012-10-19T19:16:57Z</dcterms:modified>
  <cp:revision>5</cp:revision>
  <dc:subject/>
  <dc:title>Me llamo ________ Clase 7il La fecha es el 18 de octubre del 2012</dc:title>
</cp:coreProperties>
</file>